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D34-3DE7-440E-94D7-1EC0AF95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E68-72E8-4569-96F6-4636299F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F13-898A-4274-9D4E-DE888DAE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EC6-621C-4B0B-8CD8-CC705B4F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4D9-A60E-4A4B-A0E2-8C8BA39B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113-8498-44BA-806C-9095338C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B1F-530C-423E-AC42-AE31389C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075-65DC-4F2D-BE36-EF74F5C3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A68-4DDC-4F3F-97D4-67CBF849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4CE-B795-49A9-882A-674A213B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D96-9C6B-498F-B599-36E84C6A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4D6-B0A9-49B2-AD38-F52393AD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230D-38CD-4676-89B5-EBE5E9A5E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nic Wa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thage vs. Rom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hree Round F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th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other” Mediterranean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unic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9 B.C to 146 B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ght for no other reason then Rome was jealous that Carthage even exi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hage was an economic power but not a military thr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o – used Carthage as a campaign h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d of like our government and terror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an excuse to attack Carth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pio Aemilianus destroyed the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mber sal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ato-the-elder-1-sized"/>
          <p:cNvPicPr/>
          <p:nvPr/>
        </p:nvPicPr>
        <p:blipFill>
          <a:blip r:embed="rId1"/>
          <a:stretch/>
        </p:blipFill>
        <p:spPr>
          <a:xfrm>
            <a:off x="380880" y="1447920"/>
            <a:ext cx="3659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big cities in one little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fall of Athens, there were two cities that rose to promin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e (we know about it alrea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hage (on the northern coast of Africa,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rome_carthage_218"/>
          <p:cNvPicPr/>
          <p:nvPr/>
        </p:nvPicPr>
        <p:blipFill>
          <a:blip r:embed="rId1"/>
          <a:stretch/>
        </p:blipFill>
        <p:spPr>
          <a:xfrm>
            <a:off x="0" y="1523880"/>
            <a:ext cx="56386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thage’s Personal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62 B.C., Carthage was significantly larger than Rome, about 250,000 people lived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d a powerful navy of about 500 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dibly ri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enaries fought for them!!! Did they have “Gravitas”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e, on the other h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mall n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ge empire could provide a very large army (500,000 soldiers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ded to be more loyal and therefore fought harder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d 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ed in figh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u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d a Carthaginian ship, and photocopied it 140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a gangplank to let soldiers do their dirt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nic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ed 2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thage’s fleet was destroyed in 241 B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e took over the rich island of 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nic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8 B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where Hannibal come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nibal – What should we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annibal-crossing-the-rhone"/>
          <p:cNvPicPr/>
          <p:nvPr/>
        </p:nvPicPr>
        <p:blipFill>
          <a:blip r:embed="rId1"/>
          <a:stretch/>
        </p:blipFill>
        <p:spPr>
          <a:xfrm>
            <a:off x="762120" y="1371600"/>
            <a:ext cx="70866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nibal in a nut sh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ded Rome from the North (came through the Al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e sent three armies to stop the invaders, but they were all cru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 new class of Rom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nibal did not attack Rome directly, rather he lived off the countryside, burning crops and pillaging for 13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e’s allies joined Hannibal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needed reinforc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LLS were too 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vastated plebian class (small landowners)-&gt; moved to the city and became known as the PROLETE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thage on the R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a Roman general named Scipio attacked Carth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nibal rushed back to Carthage, where he was defeated in the Battle of Zama in 202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at day on Scipio was known by the last name __ __ __ __ __ __ ___ ___ ___, symbolizing his victory in this contin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1:22:40Z</dcterms:created>
  <dc:creator>Darien Public Schools</dc:creator>
  <dc:description/>
  <dc:language>en-US</dc:language>
  <cp:lastModifiedBy>Local User</cp:lastModifiedBy>
  <dcterms:modified xsi:type="dcterms:W3CDTF">2013-10-11T18:21:16Z</dcterms:modified>
  <cp:revision>12</cp:revision>
  <dc:subject/>
  <dc:title>Carthage</dc:title>
</cp:coreProperties>
</file>